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5.png" ContentType="image/png"/>
  <Override PartName="/ppt/media/image10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4.jpeg" ContentType="image/jpeg"/>
  <Override PartName="/ppt/media/CAMERA.WAV" ContentType="audio/x-wav"/>
  <Override PartName="/ppt/media/image28.png" ContentType="image/png"/>
  <Override PartName="/ppt/media/image31.wmf" ContentType="image/x-wmf"/>
  <Override PartName="/ppt/media/image1.wmf" ContentType="image/x-wmf"/>
  <Override PartName="/ppt/media/image9.wmf" ContentType="image/x-wmf"/>
  <Override PartName="/ppt/media/image30.jpeg" ContentType="image/jpeg"/>
  <Override PartName="/ppt/media/image15.png" ContentType="image/png"/>
  <Override PartName="/ppt/media/image33.jpeg" ContentType="image/jpeg"/>
  <Override PartName="/ppt/media/image4.wmf" ContentType="image/x-wmf"/>
  <Override PartName="/ppt/media/image29.jpeg" ContentType="image/jpeg"/>
  <Override PartName="/ppt/media/image3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camera.wav" ContentType="audio/x-wav"/>
  <Override PartName="/ppt/media/image24.jpeg" ContentType="image/jpeg"/>
  <Override PartName="/ppt/media/image22.png" ContentType="image/png"/>
  <Override PartName="/ppt/media/image12.jpeg" ContentType="image/jpeg"/>
  <Override PartName="/ppt/media/image13.jpeg" ContentType="image/jpe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E0E-6577-46A6-B0A5-6A8DA039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538-CDFE-442E-AF02-FF050C4C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56D6-9395-4BD8-BD53-DC0689A5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773-7FAA-4EE3-B408-89973340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B057-207B-4C8D-96BC-5E36FB79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689C-53ED-4013-94A0-67FFE36F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1B27-2B5B-4A93-8BBE-6EC90FCC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1D33-F58D-4922-B356-52C9B84A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C4FB-9D5A-48BF-8860-4E49DA50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7BCD-5DC6-400F-8174-032A05E5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C40F-C1EC-4B8B-86A2-A07A0726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3AD-AA60-417B-9E37-C2479557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BE00-8D3E-47EB-9571-374801E6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CF70-B391-4CD2-96F3-39B1A28E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7FA1-1FC6-4423-94F5-88928486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3EB2-DE30-4097-89AB-EA3F55AE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B741-5E41-4565-A991-B211B1F9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221-13AA-4844-9FFB-AE4C0717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A6A-293E-483A-A980-1D7A7277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F2AC-E331-4369-AA76-DF5CF4E8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39C-905F-464E-AD7D-89CA9EC0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B3B-5129-46A2-9875-11B1E15A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852-F3C8-4321-A4BE-8E6DCA64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6E1-D124-4DB8-A00E-174F879C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20E2-9C05-4A29-A981-8D7026BBA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EE8C-23D9-4554-8296-6E4712441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lionden.com/peristalsis.ht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opkins-gi.org/multimedia/database/intro_247_Parietal.swf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4160" y="9064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Times New Roman"/>
              </a:rPr>
              <a:t>The Digestion </a:t>
            </a:r>
            <a:br>
              <a:rPr sz="5400"/>
            </a:br>
            <a:r>
              <a:rPr b="1" lang="en-US" sz="5400" spc="-1" strike="noStrike">
                <a:solidFill>
                  <a:srgbClr val="00ffff"/>
                </a:solidFill>
                <a:latin typeface="Times New Roman"/>
              </a:rPr>
              <a:t>System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6840" y="312372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 8m tube, from mou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o anus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G:\Clipart\Powerpnt\abdomen.wmf"/>
          <p:cNvPicPr/>
          <p:nvPr/>
        </p:nvPicPr>
        <p:blipFill>
          <a:blip r:embed="rId1"/>
          <a:stretch/>
        </p:blipFill>
        <p:spPr>
          <a:xfrm>
            <a:off x="6095880" y="1143000"/>
            <a:ext cx="2765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vement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66680" y="1467000"/>
            <a:ext cx="3033720" cy="539100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2"/>
          </p:cNvPr>
          <p:cNvSpPr/>
          <p:nvPr/>
        </p:nvSpPr>
        <p:spPr>
          <a:xfrm>
            <a:off x="4125600" y="205740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lionden.com/peristalsis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Times New Roman"/>
              </a:rPr>
              <a:t>2. Stomach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79200" y="1600200"/>
            <a:ext cx="4900680" cy="5638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32160" y="228240"/>
            <a:ext cx="3809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chanica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chur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or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hemica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ig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id 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zyme Pepsinsinogen and renn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etch receptors initiate gastric horm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cus Lining prevents digestion of itself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stimulates acid production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ted b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trin- activates HCl, pancreas, and small intest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dis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a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ghts of food (nerve inpu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it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s autodig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p secretion when pH is ~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ck mucus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33440" y="20224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nimation of acid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Gastr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ted from the pyloric region of the stomach and upper duoden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d by food, thoughts of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flow of stomach enzymes and H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contraction of cardiac sphin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s gastric empt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The Liver and bi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700000" y="907920"/>
            <a:ext cx="62420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ver involved in storage of vitamins &amp; minerals, glycog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toxifies chemicals like alcoh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trols protein levels (deamination) to make uric ac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trols sal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99ff"/>
                </a:solidFill>
                <a:latin typeface="Times New Roman"/>
              </a:rPr>
              <a:t>Bile is a mixture of unwanted cholestrols (emulsifiers), bicarbonate ions, excess salts and pygments like ha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2622600" cy="2664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4581360"/>
            <a:ext cx="1803240" cy="227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The Pancre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2852640"/>
            <a:ext cx="77724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icarbonate ions: HCO3- neutralises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mylase: starch to malt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ypsin: proteins to polypept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ospholipase: phospholipids to P.lipids, f.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pase: lipids to glycerol &amp; f.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creatic Juice pH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280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ecret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ted from the duodenum, jejun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d by the presence of acidic chyme and the presence of peptones in the duoden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the secretion of bicarbo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s gastric empt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Explain the structural features of exocrine gland cells. 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6" name="" descr="acinus"/>
          <p:cNvPicPr/>
          <p:nvPr/>
        </p:nvPicPr>
        <p:blipFill>
          <a:blip r:embed="rId1"/>
          <a:stretch/>
        </p:blipFill>
        <p:spPr>
          <a:xfrm>
            <a:off x="755640" y="3213000"/>
            <a:ext cx="3527280" cy="2992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862880" y="285264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common struct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3038760" cy="2276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170720" y="1936800"/>
            <a:ext cx="39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ocrine glands – secrete into a du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ocrine….? (ductles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cc99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cc99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11280" y="701640"/>
            <a:ext cx="8208720" cy="6156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81520" y="0"/>
            <a:ext cx="76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.3.1Draw and label a diagram showing a transverse se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 the ileum as seen under a light microsco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3. Small Intest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79200" y="1752480"/>
            <a:ext cx="5330880" cy="54864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410080" y="533160"/>
            <a:ext cx="3456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bsorp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f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gesti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pids (fa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ypsinogen activated by H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pase &amp; Amylase from the panc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mobilised enzymes on epithel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2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Why Diges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nutrients are too large and insol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ysical breakdown increases s.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emical breakdown increases solu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33560" y="0"/>
            <a:ext cx="67104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0" t="0" r="0" b="10815"/>
          <a:stretch/>
        </p:blipFill>
        <p:spPr>
          <a:xfrm>
            <a:off x="6021360" y="836640"/>
            <a:ext cx="3122640" cy="5373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5790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sor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ds, villi, microvilli expand absorptiv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nutrients absorbed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t-soluble nutrients go into ly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nutrients into bl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3440" y="0"/>
            <a:ext cx="697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Digestion in Small Intesti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10800" y="5514840"/>
            <a:ext cx="598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plain the structural features of villi inclu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icrovilli, mitochondria, pinocytotic vesic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tight junc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.2.5 Outline the role of membrane-bound enzymes on the surface of epithelial cells in the small intestine in digestio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0" y="3716280"/>
            <a:ext cx="4191120" cy="2755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6335640" cy="1967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47840" y="431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3960" y="4076640"/>
            <a:ext cx="379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mobilised enzymes in the plas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y are…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Overview of Absorpt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sorptive mechanis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ssive diffusion • Facilitated diffusion • Active 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0" r="53074" b="52111"/>
          <a:stretch/>
        </p:blipFill>
        <p:spPr>
          <a:xfrm>
            <a:off x="0" y="2057400"/>
            <a:ext cx="3092400" cy="3886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rcRect l="51299" t="0" r="0" b="50870"/>
          <a:stretch/>
        </p:blipFill>
        <p:spPr>
          <a:xfrm>
            <a:off x="3124080" y="2057400"/>
            <a:ext cx="3006720" cy="3733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rcRect l="27483" t="50623" r="23056" b="0"/>
          <a:stretch/>
        </p:blipFill>
        <p:spPr>
          <a:xfrm>
            <a:off x="6167520" y="2057400"/>
            <a:ext cx="297648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rcRect l="0" t="2617" r="0" b="0"/>
          <a:stretch/>
        </p:blipFill>
        <p:spPr>
          <a:xfrm>
            <a:off x="4156200" y="0"/>
            <a:ext cx="49878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2"/>
                </a:solidFill>
                <a:latin typeface="Times New Roman"/>
              </a:rPr>
              <a:t>Large intestine = 1.5m long (caecum, colon, rectum). No dig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2"/>
                </a:solidFill>
                <a:latin typeface="Times New Roman"/>
              </a:rPr>
              <a:t>Site of water, salt, vitamin absorption (leaving a mass in a semi-solid state). Vitamin K by bac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2"/>
                </a:solidFill>
                <a:latin typeface="Times New Roman"/>
              </a:rPr>
              <a:t>Almost everything of nutritional value has been utilized by time it reaches the large intestines -- leaving only waste (cellulose, pectins, pentosans, oth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302"/>
                </a:solidFill>
                <a:latin typeface="Times New Roman"/>
              </a:rPr>
              <a:t>Feces contains some water, dead mucosal cells, bacteria, non-absorbed remains of digestion (inorganic matter and lip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0302"/>
                </a:solidFill>
                <a:latin typeface="Times New Roman"/>
              </a:rPr>
              <a:t>Absorption from Large Intesti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9. Appendix: vestigial orga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Cows and their bacteria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5373720"/>
            <a:ext cx="77724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thout intestinal symbiotic bacteria, humans wouldn’t be able to digest many fibrous foods or get many essential vitami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695920" cy="397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H.2.6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Outline the reasons for cellulose not being digested in the alimentary canal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jor component of the plant cell w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 not possess cellulase enzy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 not have bacteria/protozoan in the gut which produces cellulase (herbivores d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ood consequence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bre!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maintain peristal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05032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Gastrointestinal Tract-Recap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0" t="2315" r="0" b="0"/>
          <a:stretch/>
        </p:blipFill>
        <p:spPr>
          <a:xfrm>
            <a:off x="914400" y="609480"/>
            <a:ext cx="7086600" cy="629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bjective 6.1.3 </a:t>
            </a:r>
            <a:br>
              <a:rPr sz="4000"/>
            </a:b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95280" y="426960"/>
          <a:ext cx="8229600" cy="5310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zy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yl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te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p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ample of enzy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ivary amyl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ps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creatic lip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i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omac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cre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bst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rc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te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iglycerides (fats or oil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ltose (needs to be further broken dow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mall polypeptides (chain of amino acids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tty Acids and Glycer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timum p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H7 (7.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– 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1116000" y="5877000"/>
            <a:ext cx="68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Digestive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mentary canal- mouth to a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r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or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m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g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trient production (by bacter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ntrol of Digestion by the Nervous System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422600" y="907920"/>
            <a:ext cx="4721400" cy="56390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Nutrition and GI Disord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3780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tip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d, dry, infrequent s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d by high fiber, fluid intake,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arr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se, watery, frequent s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 of diseases/inf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cause dehyd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verti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uches along co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fiber diet reduces 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340000" y="17640"/>
            <a:ext cx="4413240" cy="68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Ulc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elicobacter pylo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use of aspi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ive acid production in the stom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p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in 2 hours after e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bio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ac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95880" y="3505320"/>
            <a:ext cx="2021040" cy="312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eartbur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troesophageal reflux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nawing pain in the upper ch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id from the stomach to the esophag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er me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fatty me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p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lie down after e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offending f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950080" y="3505320"/>
            <a:ext cx="2174760" cy="312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nstip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6337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s movement of fecal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fluid reabsorption; hardening of the fe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from ignoring normal u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acids, calcium and iron supp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nty of dietary fiber and flu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xa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0" t="0" r="0" b="22739"/>
          <a:stretch/>
        </p:blipFill>
        <p:spPr>
          <a:xfrm>
            <a:off x="6286680" y="0"/>
            <a:ext cx="2857320" cy="359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3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3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3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3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3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3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Qui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rue or false is stress the cause of stomach ulc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is the name of the organism that causes ulc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y does the HCl and pepsin have no effect on the organis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y can it survive where it liv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ow does the immune system respond and what are the consequences of thi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effect does the organism have on the gastric aci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is the consequence of thi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very bad infection of the bacteria could lead to what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Quiz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tress does not cause stomach ulc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elicobacter Pylo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bacteria lives in the mucus on the surface of the epithelial cel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H is higher and no enzyme can get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immune system responds by white blood ce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umulation of WBCs can damage tissue and cause and ul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bacteria decreases the amount of gastric ac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re chance of ulcers with less acid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ery bad infection of the bacteria could lead to can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I. Digestion Products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otei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arbo-hydra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ipid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00240" y="1142640"/>
            <a:ext cx="4141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ino aci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b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cle,enzymes,H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st use for f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mple sugar (gluco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 energy f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tty acids &amp; glyce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food, insulation,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sed for f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Object 4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1371600" cy="127152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5" descr=""/>
          <p:cNvPicPr/>
          <p:nvPr/>
        </p:nvPicPr>
        <p:blipFill>
          <a:blip r:embed="rId2"/>
          <a:stretch/>
        </p:blipFill>
        <p:spPr>
          <a:xfrm>
            <a:off x="3048120" y="5029200"/>
            <a:ext cx="977760" cy="152388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6" descr=""/>
          <p:cNvPicPr/>
          <p:nvPr/>
        </p:nvPicPr>
        <p:blipFill>
          <a:blip r:embed="rId3"/>
          <a:stretch/>
        </p:blipFill>
        <p:spPr>
          <a:xfrm>
            <a:off x="3200400" y="3211560"/>
            <a:ext cx="1676520" cy="119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Be able to draw the gut: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843280" y="1096920"/>
            <a:ext cx="3889440" cy="576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GI Trac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                       M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lus                    Esophag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yme                  Duoden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e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jun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te”                     Cec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cending col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verse col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ding col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moid col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3200400"/>
            <a:ext cx="1752480" cy="1371600"/>
          </a:xfrm>
          <a:prstGeom prst="rect">
            <a:avLst/>
          </a:prstGeom>
          <a:noFill/>
          <a:ln w="507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72000"/>
            <a:ext cx="2895840" cy="228600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2465280" cy="3465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438280" y="1676520"/>
            <a:ext cx="0" cy="472428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What do you think actually happens?</a:t>
            </a:r>
            <a:br>
              <a:rPr sz="2400"/>
            </a:b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Complete the cartoon strip on the board using diagram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5640" y="113364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I   1)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Mouth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49400" y="1676520"/>
            <a:ext cx="4830480" cy="54864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32160" y="685440"/>
            <a:ext cx="3809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Mechanicall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breaks up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hemicall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diges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sic p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zyme amylase from salivary gla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ts &amp; form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“bolu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Digestion and the Mout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t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zymes to help breakdown simple sug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cus to lubricate the food for easier swall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ysozyme to kill bacter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ng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te recep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Flavor is enhanced with the olfactory cel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zymes to help breakdown fatty ac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piglot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1719360" cy="1738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4T04:50:46Z</dcterms:created>
  <dc:creator>Isla Cordelae</dc:creator>
  <dc:description/>
  <dc:language>en-US</dc:language>
  <cp:lastModifiedBy>me</cp:lastModifiedBy>
  <dcterms:modified xsi:type="dcterms:W3CDTF">2009-09-02T02:12:50Z</dcterms:modified>
  <cp:revision>35</cp:revision>
  <dc:subject/>
  <dc:title>The Digestion  System</dc:title>
</cp:coreProperties>
</file>